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Imag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i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ti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9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mage Which Stand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hing Larger Than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ti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i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I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4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cement Of Opposite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Similar Grammatica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2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1" fill="hold"/>
                                        <p:tgtEl>
                                          <p:spTgt spid="8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I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i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6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d Choice Intended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y A Certain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9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1" fill="hold"/>
                                        <p:tgtEl>
                                          <p:spTgt spid="9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Parad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l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Imag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1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eemingly Contradicto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ment Which Proves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You Think About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1" fill="hold"/>
                                        <p:tgtEl>
                                          <p:spTgt spid="10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i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I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Metap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8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6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There Is A Differ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tween What Is Said And W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Me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" dur="1" fill="hold"/>
                                        <p:tgtEl>
                                          <p:spTgt spid="1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1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1" fill="hold"/>
                                        <p:tgtEl>
                                          <p:spTgt spid="1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ll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Hyperb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I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6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1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Intentional Exagg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Something For Dra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Comic Ef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1" fill="hold"/>
                                        <p:tgtEl>
                                          <p:spTgt spid="1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8" dur="1" fill="hold"/>
                                        <p:tgtEl>
                                          <p:spTgt spid="1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i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Imag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6" name="AutoShape 80"/>
          <p:cNvSpPr/>
          <p:nvPr/>
        </p:nvSpPr>
        <p:spPr>
          <a:xfrm>
            <a:off x="69840" y="2454120"/>
            <a:ext cx="4578480" cy="122724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s Or Phrases A Writer Use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resent Persons, Objects, Action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elings, And Ideas Descrip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 Appealing To The Se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7" dur="1" fill="hold"/>
                                        <p:tgtEl>
                                          <p:spTgt spid="1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3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4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75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5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5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1" fill="hold"/>
                                        <p:tgtEl>
                                          <p:spTgt spid="1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Imag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Hyperb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l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i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6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8" name="AutoShape 81"/>
          <p:cNvSpPr/>
          <p:nvPr/>
        </p:nvSpPr>
        <p:spPr>
          <a:xfrm>
            <a:off x="69840" y="2514600"/>
            <a:ext cx="4492800" cy="116676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Indirect Reference T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thological, Literary,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rical Person, Place, Person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3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4" dur="1" fill="hold"/>
                                        <p:tgtEl>
                                          <p:spTgt spid="1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i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erson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Imag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25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3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Give An Inanimate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man Qua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9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0" dur="1" fill="hold"/>
                                        <p:tgtEl>
                                          <p:spTgt spid="1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i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I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9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5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8" name="AutoShape 80"/>
          <p:cNvSpPr/>
          <p:nvPr/>
        </p:nvSpPr>
        <p:spPr>
          <a:xfrm>
            <a:off x="69840" y="2514600"/>
            <a:ext cx="4502160" cy="116676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mparison Of Two Unlike Th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The Words Like Or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5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0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6" dur="1" fill="hold"/>
                                        <p:tgtEl>
                                          <p:spTgt spid="1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etap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Imag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3" name="AutoShape 80"/>
          <p:cNvSpPr/>
          <p:nvPr/>
        </p:nvSpPr>
        <p:spPr>
          <a:xfrm>
            <a:off x="69840" y="2514600"/>
            <a:ext cx="4425840" cy="116676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rison Of Two Unlik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out Using The Words L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0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1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2" dur="1" fill="hold"/>
                                        <p:tgtEl>
                                          <p:spTgt spid="1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Metap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arad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58" name="AutoShape 80"/>
          <p:cNvSpPr/>
          <p:nvPr/>
        </p:nvSpPr>
        <p:spPr>
          <a:xfrm>
            <a:off x="69840" y="2514600"/>
            <a:ext cx="4492800" cy="116676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ttitude Of The Author,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ader Infers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7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9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0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1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9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7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6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4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3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1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9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6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7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8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Oxymo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arad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I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81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f Contradict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ds In The Same Phr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Perso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533520" y="60958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Asso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i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tition Of Vow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nds In A Series Of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I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ll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Oxymo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ti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it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nant S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Andrew Marquez</cp:lastModifiedBy>
  <dcterms:modified xsi:type="dcterms:W3CDTF">2010-12-01T19:24:13Z</dcterms:modified>
  <cp:revision>22</cp:revision>
  <dc:subject/>
  <dc:title>No Slide Title</dc:title>
</cp:coreProperties>
</file>